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7A03-BFDB-4D1E-9281-AA28BCD9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A026-106E-41F0-ABD7-A6FC23B7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850F-9FD1-4FAC-BBCA-FC55BDBE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A184-8674-423A-955E-5A2F0EF5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422AC-BFD4-40EF-BAB1-CECB9E3A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CC5CE-7D16-4E6F-92DA-4169F191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09856-2E17-47D6-A90B-DF76C390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86011-4F3B-4F32-8209-A876506F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8E44A-D85C-49F0-8108-3E8E161A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4E1C8-699B-4005-8E7F-8833C5AE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3922B-A89A-4888-B26F-69030A94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34D1-BDF7-499B-9D9C-3D6D9E64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C330A-46C5-4276-96CA-D2A394AA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6D455-D394-44CB-BC18-0B5281EF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6596D-D627-4A5F-83D3-DF60842E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8F5A5-45EC-4B82-AACB-744A6601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B4616-80BF-496C-8556-9D918C44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E398C-AC0F-409A-82CA-9C7DDEE8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E8A66-149D-4DA2-B2F2-20C52852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2D125-11D3-4693-A3D8-86138D52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56D4F-F5CF-4155-BE28-4AE3155D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4137B-A4B0-4281-9B13-50F7AEAE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1352-92C6-4BDF-8E9A-CE365862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0F076-AE9B-4659-BA50-E59BA5CE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86DCE-B3C8-4AD1-9545-9299BAB6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5F5F4-EB52-4F2A-990B-3019E945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BB144-B87B-400E-B9A4-6BB33BF4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5CB06-25A6-4968-B30E-A6F85F1B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09497-4B25-4CC5-A3A3-26B52E6A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FED2E-4C46-4027-9448-772DB254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19CC-1EEE-4B54-919F-63DB09E3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A09F-3BC2-4ECE-B99F-736B2D79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1FC3-4117-4D18-9346-27590AF8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98C8-3A29-40DD-9D09-5691C641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D30F-7152-4300-A6E0-2CC83C9B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95A6-F34A-4C44-A369-7032FCB3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9B72-F89A-478C-86F3-89D8DA96AE30}" type="slidenum">
              <a:rPr b="1" lang="en-US" sz="10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87656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87512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sphere1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5827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415200" y="640044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859E-650A-4451-B70A-EAE8F52217D6}" type="slidenum">
              <a:rPr b="1" lang="en-US" sz="10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5812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sphere1.png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95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411624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6B64-61CE-486F-B6CD-B937EB9410BC}" type="slidenum">
              <a:rPr b="1" lang="en-US" sz="10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8380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Which President was elected unanimousl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990720" y="5195880"/>
            <a:ext cx="487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533520" y="2743200"/>
            <a:ext cx="1360440" cy="2350080"/>
            <a:chOff x="533520" y="2743200"/>
            <a:chExt cx="1360440" cy="2350080"/>
          </a:xfrm>
        </p:grpSpPr>
        <p:pic>
          <p:nvPicPr>
            <p:cNvPr id="130" name="Picture 1" descr=""/>
            <p:cNvPicPr/>
            <p:nvPr/>
          </p:nvPicPr>
          <p:blipFill>
            <a:blip r:embed="rId1"/>
            <a:stretch/>
          </p:blipFill>
          <p:spPr>
            <a:xfrm>
              <a:off x="533520" y="2743200"/>
              <a:ext cx="1360440" cy="17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2"/>
            <p:cNvSpPr/>
            <p:nvPr/>
          </p:nvSpPr>
          <p:spPr>
            <a:xfrm>
              <a:off x="533520" y="4725000"/>
              <a:ext cx="13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dis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8"/>
          <p:cNvGrpSpPr/>
          <p:nvPr/>
        </p:nvGrpSpPr>
        <p:grpSpPr>
          <a:xfrm>
            <a:off x="2362320" y="2743200"/>
            <a:ext cx="1347840" cy="2381760"/>
            <a:chOff x="2362320" y="2743200"/>
            <a:chExt cx="1347840" cy="2381760"/>
          </a:xfrm>
        </p:grpSpPr>
        <p:pic>
          <p:nvPicPr>
            <p:cNvPr id="133" name="Picture 4" descr=""/>
            <p:cNvPicPr/>
            <p:nvPr/>
          </p:nvPicPr>
          <p:blipFill>
            <a:blip r:embed="rId2"/>
            <a:stretch/>
          </p:blipFill>
          <p:spPr>
            <a:xfrm>
              <a:off x="2362320" y="2743200"/>
              <a:ext cx="1347840" cy="17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7"/>
            <p:cNvSpPr/>
            <p:nvPr/>
          </p:nvSpPr>
          <p:spPr>
            <a:xfrm>
              <a:off x="2365920" y="4756680"/>
              <a:ext cx="13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am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9"/>
          <p:cNvGrpSpPr/>
          <p:nvPr/>
        </p:nvGrpSpPr>
        <p:grpSpPr>
          <a:xfrm>
            <a:off x="4086360" y="2743200"/>
            <a:ext cx="1528560" cy="2381760"/>
            <a:chOff x="4086360" y="2743200"/>
            <a:chExt cx="1528560" cy="2381760"/>
          </a:xfrm>
        </p:grpSpPr>
        <p:pic>
          <p:nvPicPr>
            <p:cNvPr id="136" name="Picture 5" descr=""/>
            <p:cNvPicPr/>
            <p:nvPr/>
          </p:nvPicPr>
          <p:blipFill>
            <a:blip r:embed="rId3"/>
            <a:stretch/>
          </p:blipFill>
          <p:spPr>
            <a:xfrm>
              <a:off x="4086360" y="2743200"/>
              <a:ext cx="1528560" cy="17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28"/>
            <p:cNvSpPr/>
            <p:nvPr/>
          </p:nvSpPr>
          <p:spPr>
            <a:xfrm>
              <a:off x="4086360" y="4756680"/>
              <a:ext cx="15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shingt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0"/>
          <p:cNvGrpSpPr/>
          <p:nvPr/>
        </p:nvGrpSpPr>
        <p:grpSpPr>
          <a:xfrm>
            <a:off x="6248520" y="2743200"/>
            <a:ext cx="1485720" cy="2390040"/>
            <a:chOff x="6248520" y="2743200"/>
            <a:chExt cx="1485720" cy="2390040"/>
          </a:xfrm>
        </p:grpSpPr>
        <p:pic>
          <p:nvPicPr>
            <p:cNvPr id="139" name="Picture 6" descr=""/>
            <p:cNvPicPr/>
            <p:nvPr/>
          </p:nvPicPr>
          <p:blipFill>
            <a:blip r:embed="rId4"/>
            <a:stretch/>
          </p:blipFill>
          <p:spPr>
            <a:xfrm>
              <a:off x="6248520" y="2743200"/>
              <a:ext cx="1485720" cy="17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29"/>
            <p:cNvSpPr/>
            <p:nvPr/>
          </p:nvSpPr>
          <p:spPr>
            <a:xfrm>
              <a:off x="6252120" y="4764960"/>
              <a:ext cx="148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col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AutoShape 23"/>
          <p:cNvGrpSpPr/>
          <p:nvPr/>
        </p:nvGrpSpPr>
        <p:grpSpPr>
          <a:xfrm>
            <a:off x="7454880" y="6004080"/>
            <a:ext cx="866880" cy="641160"/>
            <a:chOff x="7454880" y="6004080"/>
            <a:chExt cx="866880" cy="641160"/>
          </a:xfrm>
        </p:grpSpPr>
        <p:pic>
          <p:nvPicPr>
            <p:cNvPr id="142" name="AutoShape 23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454880" y="6004080"/>
              <a:ext cx="86688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467480" y="6019920"/>
              <a:ext cx="838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7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Which President was known as the “Father of the Constitution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1066680" y="521496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AutoShape 23"/>
          <p:cNvGrpSpPr/>
          <p:nvPr/>
        </p:nvGrpSpPr>
        <p:grpSpPr>
          <a:xfrm>
            <a:off x="7454880" y="6004080"/>
            <a:ext cx="866880" cy="641160"/>
            <a:chOff x="7454880" y="6004080"/>
            <a:chExt cx="866880" cy="641160"/>
          </a:xfrm>
        </p:grpSpPr>
        <p:pic>
          <p:nvPicPr>
            <p:cNvPr id="147" name="AutoShape 2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454880" y="6004080"/>
              <a:ext cx="86688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467480" y="6019920"/>
              <a:ext cx="838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4"/>
          <p:cNvGrpSpPr/>
          <p:nvPr/>
        </p:nvGrpSpPr>
        <p:grpSpPr>
          <a:xfrm>
            <a:off x="533520" y="2743200"/>
            <a:ext cx="1360440" cy="2350080"/>
            <a:chOff x="533520" y="2743200"/>
            <a:chExt cx="1360440" cy="2350080"/>
          </a:xfrm>
        </p:grpSpPr>
        <p:pic>
          <p:nvPicPr>
            <p:cNvPr id="150" name="Picture 5" descr=""/>
            <p:cNvPicPr/>
            <p:nvPr/>
          </p:nvPicPr>
          <p:blipFill>
            <a:blip r:embed="rId2"/>
            <a:stretch/>
          </p:blipFill>
          <p:spPr>
            <a:xfrm>
              <a:off x="533520" y="2743200"/>
              <a:ext cx="1360440" cy="17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6"/>
            <p:cNvSpPr/>
            <p:nvPr/>
          </p:nvSpPr>
          <p:spPr>
            <a:xfrm>
              <a:off x="533520" y="4725000"/>
              <a:ext cx="13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dis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7"/>
          <p:cNvGrpSpPr/>
          <p:nvPr/>
        </p:nvGrpSpPr>
        <p:grpSpPr>
          <a:xfrm>
            <a:off x="2365200" y="2711520"/>
            <a:ext cx="1347840" cy="2381760"/>
            <a:chOff x="2365200" y="2711520"/>
            <a:chExt cx="1347840" cy="2381760"/>
          </a:xfrm>
        </p:grpSpPr>
        <p:pic>
          <p:nvPicPr>
            <p:cNvPr id="153" name="Picture 8" descr=""/>
            <p:cNvPicPr/>
            <p:nvPr/>
          </p:nvPicPr>
          <p:blipFill>
            <a:blip r:embed="rId3"/>
            <a:stretch/>
          </p:blipFill>
          <p:spPr>
            <a:xfrm>
              <a:off x="2365200" y="2711520"/>
              <a:ext cx="1347840" cy="17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Box 9"/>
            <p:cNvSpPr/>
            <p:nvPr/>
          </p:nvSpPr>
          <p:spPr>
            <a:xfrm>
              <a:off x="2368800" y="4725000"/>
              <a:ext cx="13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am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0"/>
          <p:cNvGrpSpPr/>
          <p:nvPr/>
        </p:nvGrpSpPr>
        <p:grpSpPr>
          <a:xfrm>
            <a:off x="4086360" y="2743200"/>
            <a:ext cx="1528560" cy="2381760"/>
            <a:chOff x="4086360" y="2743200"/>
            <a:chExt cx="1528560" cy="2381760"/>
          </a:xfrm>
        </p:grpSpPr>
        <p:pic>
          <p:nvPicPr>
            <p:cNvPr id="156" name="Picture 11" descr=""/>
            <p:cNvPicPr/>
            <p:nvPr/>
          </p:nvPicPr>
          <p:blipFill>
            <a:blip r:embed="rId4"/>
            <a:stretch/>
          </p:blipFill>
          <p:spPr>
            <a:xfrm>
              <a:off x="4086360" y="2743200"/>
              <a:ext cx="1528560" cy="17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12"/>
            <p:cNvSpPr/>
            <p:nvPr/>
          </p:nvSpPr>
          <p:spPr>
            <a:xfrm>
              <a:off x="4086360" y="4756680"/>
              <a:ext cx="15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shingt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3"/>
          <p:cNvGrpSpPr/>
          <p:nvPr/>
        </p:nvGrpSpPr>
        <p:grpSpPr>
          <a:xfrm>
            <a:off x="6248520" y="2743200"/>
            <a:ext cx="1485720" cy="2390040"/>
            <a:chOff x="6248520" y="2743200"/>
            <a:chExt cx="1485720" cy="2390040"/>
          </a:xfrm>
        </p:grpSpPr>
        <p:pic>
          <p:nvPicPr>
            <p:cNvPr id="159" name="Picture 14" descr=""/>
            <p:cNvPicPr/>
            <p:nvPr/>
          </p:nvPicPr>
          <p:blipFill>
            <a:blip r:embed="rId5"/>
            <a:stretch/>
          </p:blipFill>
          <p:spPr>
            <a:xfrm>
              <a:off x="6248520" y="2743200"/>
              <a:ext cx="1485720" cy="17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15"/>
            <p:cNvSpPr/>
            <p:nvPr/>
          </p:nvSpPr>
          <p:spPr>
            <a:xfrm>
              <a:off x="6252120" y="4764960"/>
              <a:ext cx="148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col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 is the term of a U.S. Senato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666880" y="4572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ye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90920" y="464832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276720" y="3962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ye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9"/>
          <p:cNvSpPr/>
          <p:nvPr/>
        </p:nvSpPr>
        <p:spPr>
          <a:xfrm>
            <a:off x="2590920" y="342900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2590920" y="403848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1"/>
          <p:cNvSpPr/>
          <p:nvPr/>
        </p:nvSpPr>
        <p:spPr>
          <a:xfrm>
            <a:off x="2590920" y="525780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3276720" y="5181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ye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276720" y="3352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 ye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7"/>
          <p:cNvGrpSpPr/>
          <p:nvPr/>
        </p:nvGrpSpPr>
        <p:grpSpPr>
          <a:xfrm>
            <a:off x="3581280" y="3352320"/>
            <a:ext cx="762120" cy="686160"/>
            <a:chOff x="3581280" y="3352320"/>
            <a:chExt cx="762120" cy="686160"/>
          </a:xfrm>
        </p:grpSpPr>
        <p:sp>
          <p:nvSpPr>
            <p:cNvPr id="171" name="Line 15"/>
            <p:cNvSpPr/>
            <p:nvPr/>
          </p:nvSpPr>
          <p:spPr>
            <a:xfrm>
              <a:off x="3581280" y="3428640"/>
              <a:ext cx="762120" cy="609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6"/>
            <p:cNvSpPr/>
            <p:nvPr/>
          </p:nvSpPr>
          <p:spPr>
            <a:xfrm flipV="1">
              <a:off x="3581280" y="3352320"/>
              <a:ext cx="6858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8"/>
          <p:cNvGrpSpPr/>
          <p:nvPr/>
        </p:nvGrpSpPr>
        <p:grpSpPr>
          <a:xfrm>
            <a:off x="3505320" y="3962160"/>
            <a:ext cx="761760" cy="686160"/>
            <a:chOff x="3505320" y="3962160"/>
            <a:chExt cx="761760" cy="686160"/>
          </a:xfrm>
        </p:grpSpPr>
        <p:sp>
          <p:nvSpPr>
            <p:cNvPr id="174" name="Line 19"/>
            <p:cNvSpPr/>
            <p:nvPr/>
          </p:nvSpPr>
          <p:spPr>
            <a:xfrm>
              <a:off x="3505320" y="4038480"/>
              <a:ext cx="761760" cy="609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0"/>
            <p:cNvSpPr/>
            <p:nvPr/>
          </p:nvSpPr>
          <p:spPr>
            <a:xfrm flipV="1">
              <a:off x="3505320" y="3962160"/>
              <a:ext cx="68544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1"/>
          <p:cNvGrpSpPr/>
          <p:nvPr/>
        </p:nvGrpSpPr>
        <p:grpSpPr>
          <a:xfrm>
            <a:off x="3581280" y="4495320"/>
            <a:ext cx="762120" cy="686160"/>
            <a:chOff x="3581280" y="4495320"/>
            <a:chExt cx="762120" cy="686160"/>
          </a:xfrm>
        </p:grpSpPr>
        <p:sp>
          <p:nvSpPr>
            <p:cNvPr id="177" name="Line 22"/>
            <p:cNvSpPr/>
            <p:nvPr/>
          </p:nvSpPr>
          <p:spPr>
            <a:xfrm>
              <a:off x="3581280" y="4571640"/>
              <a:ext cx="762120" cy="609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 flipV="1">
              <a:off x="3581280" y="4495320"/>
              <a:ext cx="6858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25"/>
          <p:cNvSpPr/>
          <p:nvPr/>
        </p:nvSpPr>
        <p:spPr>
          <a:xfrm>
            <a:off x="3200400" y="327672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AutoShape 23"/>
          <p:cNvGrpSpPr/>
          <p:nvPr/>
        </p:nvGrpSpPr>
        <p:grpSpPr>
          <a:xfrm>
            <a:off x="7454880" y="6004080"/>
            <a:ext cx="866880" cy="641160"/>
            <a:chOff x="7454880" y="6004080"/>
            <a:chExt cx="866880" cy="641160"/>
          </a:xfrm>
        </p:grpSpPr>
        <p:pic>
          <p:nvPicPr>
            <p:cNvPr id="181" name="AutoShape 2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454880" y="6004080"/>
              <a:ext cx="86688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467480" y="6019920"/>
              <a:ext cx="838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old must you be before you can become a State Legislat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990720" y="3352680"/>
            <a:ext cx="3808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5"/>
          <p:cNvSpPr/>
          <p:nvPr/>
        </p:nvSpPr>
        <p:spPr>
          <a:xfrm>
            <a:off x="990720" y="3962520"/>
            <a:ext cx="380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990720" y="4648320"/>
            <a:ext cx="380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990720" y="5257800"/>
            <a:ext cx="3808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600200" y="3276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years 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160020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 years 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160020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 years 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600200" y="5181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 years 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1752120" y="3200400"/>
            <a:ext cx="1753200" cy="609480"/>
            <a:chOff x="1752120" y="3200400"/>
            <a:chExt cx="1753200" cy="609480"/>
          </a:xfrm>
        </p:grpSpPr>
        <p:sp>
          <p:nvSpPr>
            <p:cNvPr id="193" name="Line 13"/>
            <p:cNvSpPr/>
            <p:nvPr/>
          </p:nvSpPr>
          <p:spPr>
            <a:xfrm flipH="1">
              <a:off x="1752120" y="3200400"/>
              <a:ext cx="167652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4"/>
            <p:cNvSpPr/>
            <p:nvPr/>
          </p:nvSpPr>
          <p:spPr>
            <a:xfrm>
              <a:off x="1828800" y="3200400"/>
              <a:ext cx="167652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6"/>
          <p:cNvGrpSpPr/>
          <p:nvPr/>
        </p:nvGrpSpPr>
        <p:grpSpPr>
          <a:xfrm>
            <a:off x="1752120" y="3809880"/>
            <a:ext cx="1753200" cy="609480"/>
            <a:chOff x="1752120" y="3809880"/>
            <a:chExt cx="1753200" cy="609480"/>
          </a:xfrm>
        </p:grpSpPr>
        <p:sp>
          <p:nvSpPr>
            <p:cNvPr id="196" name="Line 17"/>
            <p:cNvSpPr/>
            <p:nvPr/>
          </p:nvSpPr>
          <p:spPr>
            <a:xfrm flipH="1">
              <a:off x="1752120" y="3809880"/>
              <a:ext cx="167652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8"/>
            <p:cNvSpPr/>
            <p:nvPr/>
          </p:nvSpPr>
          <p:spPr>
            <a:xfrm>
              <a:off x="1828800" y="3809880"/>
              <a:ext cx="167652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9"/>
          <p:cNvGrpSpPr/>
          <p:nvPr/>
        </p:nvGrpSpPr>
        <p:grpSpPr>
          <a:xfrm>
            <a:off x="1676520" y="5105520"/>
            <a:ext cx="1752120" cy="609480"/>
            <a:chOff x="1676520" y="5105520"/>
            <a:chExt cx="1752120" cy="609480"/>
          </a:xfrm>
        </p:grpSpPr>
        <p:sp>
          <p:nvSpPr>
            <p:cNvPr id="199" name="Line 20"/>
            <p:cNvSpPr/>
            <p:nvPr/>
          </p:nvSpPr>
          <p:spPr>
            <a:xfrm flipH="1">
              <a:off x="1676520" y="5105520"/>
              <a:ext cx="167616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1"/>
            <p:cNvSpPr/>
            <p:nvPr/>
          </p:nvSpPr>
          <p:spPr>
            <a:xfrm>
              <a:off x="1752480" y="5105520"/>
              <a:ext cx="167616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2"/>
          <p:cNvSpPr/>
          <p:nvPr/>
        </p:nvSpPr>
        <p:spPr>
          <a:xfrm>
            <a:off x="3886200" y="335268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AutoShape 23"/>
          <p:cNvGrpSpPr/>
          <p:nvPr/>
        </p:nvGrpSpPr>
        <p:grpSpPr>
          <a:xfrm>
            <a:off x="7454880" y="6004080"/>
            <a:ext cx="866880" cy="641160"/>
            <a:chOff x="7454880" y="6004080"/>
            <a:chExt cx="866880" cy="641160"/>
          </a:xfrm>
        </p:grpSpPr>
        <p:pic>
          <p:nvPicPr>
            <p:cNvPr id="203" name="AutoShape 2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454880" y="6004080"/>
              <a:ext cx="86688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467480" y="6019920"/>
              <a:ext cx="838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9:28:00Z</dcterms:created>
  <dc:creator>Jeff</dc:creator>
  <dc:description/>
  <dc:language>en-US</dc:language>
  <cp:lastModifiedBy>forrestf</cp:lastModifiedBy>
  <dcterms:modified xsi:type="dcterms:W3CDTF">2010-11-16T03:15:33Z</dcterms:modified>
  <cp:revision>86</cp:revision>
  <dc:subject/>
  <dc:title>Slide 1</dc:title>
</cp:coreProperties>
</file>